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D75-457E-4361-98F5-EBD46169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18C-E8AE-4ACC-803B-A363CE8D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D5E-043D-44B7-921D-5CEC3C25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6B4-A115-4867-A50E-E50E0685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786-3A6C-4D71-AC9A-D89959E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8EE-F5F9-4993-864B-F8895AF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D9A-F18F-46F0-914E-B9BF8E5B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1BA-4369-4FBB-A535-2B58481C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BC9-B618-4F7C-961F-8ACBEAF1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BA0-A0B6-441B-A3DF-FE775BC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1D64-A189-49C1-A972-AE02F7B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CD3-0BA7-4B17-A9EF-D864345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26F4-6721-42D0-B10B-89E4471F5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wsp.edu/education/lwilson/curric/newtaxonomy.htm" TargetMode="External"/><Relationship Id="rId2" Type="http://schemas.openxmlformats.org/officeDocument/2006/relationships/hyperlink" Target="http://projects.coe.uga.edu/epltt/index.php?title=Bloom%27s_Taxonomy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’s Taxonomy vs. Bloom’s Revised Tax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son, Leslie Owen. Leslie Owen Wilson's Curriculum Pages: Beyond Bloom - A new Version of the Cognitive Taxonomy. Web. 2006.  21 Dec 2009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wsp.edu/education/lwilson/curric/newtaxonomy.ht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rojects.coe.uga.edu/epltt/index.php?title=Bloom%27s_Taxon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’s Taxonomy 19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Bloom, pyscholog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functions of thought or coming to 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Domain of human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fective Domain, Psychomotor Dom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m’s Taxonomy – classification of the cognitive domain of human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on education – learning and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’ Revised Taxonomy 2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adaptation and re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r student of Bloom’s, Lorin Anderson and former Bloom’s former research partner, David Krath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year ef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practical and applicable in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56386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808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iginal Terms            New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791320" y="1752480"/>
            <a:ext cx="358128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007400">
            <a:off x="3580920" y="213372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19867800">
            <a:off x="3581280" y="228564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3886200" y="34290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3886200" y="4191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886200" y="50292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ed7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3886200" y="586728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04920" y="6477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(Based on Pohl, 2000, </a:t>
            </a:r>
            <a:r>
              <a:rPr b="1" i="1" lang="en-US" sz="1800" spc="-1" strike="noStrike">
                <a:solidFill>
                  <a:srgbClr val="c0504d"/>
                </a:solidFill>
                <a:latin typeface="Calibri"/>
              </a:rPr>
              <a:t>Learning to Think, Thinking to Learn, p. 8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Levels Def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EMBERING – lowest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rieving, recognizing, and recalling knowledge from long-term memo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ning is not necessarily pre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STANDING – second lev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ucting meaning from oral, written, and graphic messages through interpreting, exemplifying, classifying, summarizing, inferring, comparing and explai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LYING – thir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Levels Def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ING – lowest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– second lev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– thir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ying out or using learned material through executing or implementing, often in a new, but concret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each level incorporates the levels below – in order to correctly 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pp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, one must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derst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ppropriate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Level - Analy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ing – breaking material into constituent parts, determining how parts relate to one another, an overall structure or purpose and/or similar situations or scen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s differentiating, attributing, organizing, and/or distinguishing of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Level - Evalu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– Making judgments based upon criteria and standards through checking and critiquing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ing the value of evidence, theories or material pres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Level - Cre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– Putting elements together to form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her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ole; reorganizing elements into a new pattern or structure through generating, planning, or produ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hasis on a quality or highly functional “cre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ed the highest or most complex level, incorporating elements of all levels bel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5:23:37Z</dcterms:created>
  <dc:creator>bguenther</dc:creator>
  <dc:description/>
  <dc:language>en-US</dc:language>
  <cp:lastModifiedBy>bguenther</cp:lastModifiedBy>
  <dcterms:modified xsi:type="dcterms:W3CDTF">2010-02-08T19:31:00Z</dcterms:modified>
  <cp:revision>50</cp:revision>
  <dc:subject/>
  <dc:title>Slide 1</dc:title>
</cp:coreProperties>
</file>